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78C-D4F9-4555-BDDB-933EFDD3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C17-9C80-4F90-800E-2DD19EDD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44E-65E9-45E8-AD06-91614A94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226-B8F4-4C41-9BD2-FD7A5301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00AC-2100-4EAA-BBC8-C7C93510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49A9-2B97-4061-91FA-5C5A3743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C0A1-3483-4B06-BD16-C5974CA2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9CE5-A5D8-4377-9090-1B63B991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AEC9-0151-4D75-B1BD-2246B9F8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699A-C7BD-4334-A09F-13E55DED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E9F9-151A-449A-A5C1-C287CE16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332-7A66-404E-9A09-0F17F5B1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EA3D-0FA4-4C98-89BB-A5544DF1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FEC3-AF9B-460F-B99E-CE84743B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A51F-A1FB-4345-B1B1-2E1E3023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9C3A-C1E3-463A-8B43-214EF3A6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FB40-7ED8-4FAE-A239-75EFB637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972-CB31-49F9-ADE1-52229846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477-08CB-4909-9E01-F4C3323A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1E7-D73C-4B6A-860F-E755DCB9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D91-8068-4B72-B2AE-9525725C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9FD-B49F-4735-9277-CF5FF95C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C7B-7E94-4B44-A49D-3AC426EF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FC3-5A26-4B69-B279-15B0452B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EF99-787B-4EBD-AD7F-CE45DCDB7C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D2E0-6A29-423E-B824-271694A38A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5400" spc="-1" strike="noStrike">
                <a:solidFill>
                  <a:srgbClr val="000000"/>
                </a:solidFill>
                <a:latin typeface="Arial"/>
              </a:rPr>
              <a:t>My Personal Learning Prof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Ma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600" spc="-1" strike="noStrike">
                <a:solidFill>
                  <a:srgbClr val="8c0039"/>
                </a:solidFill>
                <a:latin typeface="Arial"/>
              </a:rPr>
              <a:t>My learning style is</a:t>
            </a:r>
            <a:r>
              <a:rPr b="0" lang="en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/Kinesthe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that I am resourc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676440" cy="600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86600" y="5105520"/>
            <a:ext cx="6858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600" spc="-1" strike="noStrike">
                <a:solidFill>
                  <a:srgbClr val="8c0039"/>
                </a:solidFill>
                <a:latin typeface="Arial"/>
              </a:rPr>
              <a:t>My learning technique is</a:t>
            </a:r>
            <a:r>
              <a:rPr b="0" lang="en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/Learned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I have a great way of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848720" y="1752480"/>
            <a:ext cx="895320" cy="1209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5308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2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7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 need to learn becau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make me sm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have a lot of intelligence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learning is a path to great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en I lear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hings come to me like new ideas fo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like new cons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12:26Z</dcterms:created>
  <dc:creator>Isaiah Hitchcock</dc:creator>
  <dc:description/>
  <dc:language>en-US</dc:language>
  <cp:lastModifiedBy>Isaiah Hitchcock</cp:lastModifiedBy>
  <dcterms:modified xsi:type="dcterms:W3CDTF">2010-11-23T16:16:56Z</dcterms:modified>
  <cp:revision>5</cp:revision>
  <dc:subject/>
  <dc:title>My Personal Learning Profile</dc:title>
</cp:coreProperties>
</file>